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1B955-367C-44A4-8CA6-BD62CB627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9326C-6CBD-476D-BBD2-46DD431DA17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DB061-CB13-4DF7-8994-F8CC8E2A2F9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04FD9-EB2C-420F-A142-BC17B04318D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7F941-ED07-4AE6-B396-CD3D9EE13B75}"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60DE6D93-4EEC-4C78-B2A2-B9F2438496A0}"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7B373-0F92-48FF-AE47-525A3BE4FE2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08C61-3023-44DB-8765-BF17300DD44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5446C-89A8-4C6C-9968-723574B8D82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84846-B76C-4EF0-8C88-70ADF9F80F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C5124-8062-4DD2-A53E-0811481E92D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F2A2E-BC2B-41CE-9BAB-4B0BCFBD346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CA432-EDBE-4166-9902-956E2529E8F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96BC1-A3AA-4DD2-B3C6-A8D5A3D762C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A1502-6432-498A-90EF-F38B8A386B3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96E28-14BF-4ECD-B859-5EAE8493D12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8677C-8C87-4868-A70A-2229F0D4373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0C7D3-C2D6-468F-99E2-1B82FBE4193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842D4-2DF5-41E0-BAD0-3F8D241FFF5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FDB78-D1B8-47C2-83E3-B08231A296D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B490C-20AE-44E1-8188-D4921DD60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24BF2-E4ED-49F1-B2DC-DF5F95D9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2F105-B4E3-4CCA-8DEE-453647B3B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FE03C-86D4-4FE3-986A-4B9F5F9F5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CC934-267C-4F91-A979-E03E77BC1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D8989-33D2-41CF-A120-6F40A90D5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F859E-DBDA-4F88-8F39-EDE2F18A2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9BA6A-0E88-436A-8D98-B60938BE7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6C8E5-BC4B-475A-BB45-66D003AA5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9D040-780E-4C2D-9847-6A825CA2C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83361-0BBC-48C7-8C21-B4700D605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BBD6-B29A-4942-AE54-DDF98D5C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5FE2D-108E-4FC6-BDC6-846F818EF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BA74D-3FDF-4F89-A239-D22BE776F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75345-46CB-4A7C-8E0D-2D65D194E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5AA6B-EED0-4418-97D9-26AA59834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898C6-94C9-4525-9D88-562A5243C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3851D-F10C-4AA1-8768-26661654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C776-2ACE-497C-8D8A-111D690A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3CF1-C886-47A0-905B-90C069CA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B65A-BF8C-4EEB-BD30-BCC9FAF7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FEEA-2679-42FB-913C-F092748F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AE7F-C91E-4DF1-A4F8-4F930233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8920-42D3-4643-9A1B-A3386F965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8B2D0-3D25-4EB4-ADE8-0ACC027CC95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FCBCF-410B-49F3-B581-9C5EE4BB0A85}"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644400" y="87624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41D0D-D008-4E58-A83B-8FB03061ED95}"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BA00E-BBB8-4C23-9969-99FAE547CA4E}"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30T02:44:28Z</dcterms:modified>
  <cp:revision>44</cp:revision>
  <dc:subject/>
  <dc:title>PLMLC Leadership Series  Thunder Bay Region Day 1</dc:title>
</cp:coreProperties>
</file>